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D06-297D-4DA2-85E2-1098C161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EB8-7D54-4C35-A48A-6464AAF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300-1114-44D7-8491-B00EC4D4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1DA-6B06-4DAA-84D0-8D4278D1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FEDA-FE1B-4B90-AE8A-F4613172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DC66-5D42-40EC-8946-5DAAF05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6B95-BC39-4E9E-9BC4-B0149A49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853-113D-4D44-B35D-61B50EE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187F-966F-41CE-AB18-93D30DA6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FAF-CCD2-4A8E-8AA0-C4E7905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AE18-4C8A-42B0-81E7-4A1CF47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05C-B63A-4628-9163-6B67B29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651D-BA71-4BFE-830E-EE64C9D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37F-3E05-42F8-96A6-A49781B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BC16-806F-4807-B033-657D9FC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86FF-5129-402A-B39D-FF342F15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5AC-9018-4406-BBCD-89779784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F37-7776-4426-9E8B-AE8A70F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682-FE26-4AFB-814F-EDF13515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B29-57D5-4A00-8615-D342B10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199-EB22-46D8-B913-A34B7BE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757-508C-4863-B03C-E623631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F53-8E73-440D-A340-EA67A53B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C31-86DA-4D52-9254-5988DCA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979D-5E1B-4722-840B-7A77AB8A0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1B0-77B5-4F97-8F56-182CAE350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37160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1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titular, uma vez aprovado o Relatório, terá 1 (hum) ano para requerer a concessão de lavra, e, dentro deste prazo, poderá negociar seu direito a essa concessão, na forma deste Códig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 DNPM poderá prorrogar o prazo referido no caput, por igual período, mediante solicitação justificada do titular, manifestada antes de findar-se o prazo inicial ou a prorrogação em curso.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6:43Z</dcterms:modified>
  <cp:revision>62</cp:revision>
  <dc:subject/>
  <dc:title>Apresentação do PowerPoint</dc:title>
</cp:coreProperties>
</file>